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D1B-1021-4FA3-95DD-8DA3F8F3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C39-506B-4173-AD23-E45B58FF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BDC-65B4-46FC-B1A7-C80C56BF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863-327D-4543-A48A-5CB21BDE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E96-751C-43E8-995C-8CA31FA8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25D-05E2-4336-8AE4-9F611C94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26D-3613-42A3-A8A5-4B72ACF7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9C1-4D24-4877-BB7A-4A2F7805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FE1-1C3F-44A8-A4D2-534E193A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BC2-41CB-4B67-8652-E16F011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00F-D573-4C59-A7CB-5F5B035B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1EF-D421-4A08-A051-C9DD46DC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6E97-6E76-498B-AB0F-799F2A7B8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sites.google.com/site/studentcbaexampl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inauer.com/groom/article.php?id=2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Benefi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 decision mak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d Presley, Julie Westgard, Louis Av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&#10;hammer.gif  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3809880" y="914400"/>
            <a:ext cx="144792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od parts to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measured in doll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 the distant future are not as valuable as benefits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_x001c_dollar-sign-in-lightbulb.jpg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486400" y="2666880"/>
            <a:ext cx="1905120" cy="1685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_x001c_dollar-sign-in-lightbulb.jpg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5562720" y="5029200"/>
            <a:ext cx="819000" cy="819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7315200" y="6553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to anyone are counted in a public C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952880" y="3809880"/>
            <a:ext cx="342900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er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garb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f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&#13;clean air.jpg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7315200" y="6553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u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unting helps us determine and compare  the value of costs and benefits incurred today and in the distant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Value of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_x000e_time-money.jpg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3048120" y="4800600"/>
            <a:ext cx="2666880" cy="1766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830160" y="6165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45320" y="632304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Westg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Dis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today is more valuable than money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you lend me $100.00 today if I paid you $100.0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you lend me $100.00 today if I paid you $100.00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 ye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_x000b_images.jpeg 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943600" y="4800600"/>
            <a:ext cx="2576520" cy="1889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45320" y="632304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Westg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CBA of your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website reporting your findings. Example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s://sites.google.com/site/studentcbaexample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stions to consider for refle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r group make a recommendation based on your conclusions if a committee overseeing the decision-making process were to approach you for your opin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you have come to the same conclusions in your CBA without performing a C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there any options that you did not pursue that would have been valuable in your analysis, and would it have been better to include more options in your C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Consi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re decisions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ols and strategies are used to figure out consequences for a particular deci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every decision have positive and negative consequ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&#10;Scales.GIF  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486400" y="4191120"/>
            <a:ext cx="3124080" cy="2528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066680" y="4419720"/>
            <a:ext cx="3733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143000" y="432900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Should the school year be extended by two  wee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 : more time for lear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: requires more money; less va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22000" y="62467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es Pre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makers: individuals, governments, corporations, and social instit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a positive consequence be a negative consequence for another per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political decisions affect everyone the s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compare consequences in our decision-making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5680" y="62467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es Pre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http://www.savagechickens.com/images/chickendecisions.jpg"/>
          <p:cNvPicPr/>
          <p:nvPr/>
        </p:nvPicPr>
        <p:blipFill>
          <a:blip r:embed="rId1"/>
          <a:stretch/>
        </p:blipFill>
        <p:spPr>
          <a:xfrm>
            <a:off x="2971800" y="4038480"/>
            <a:ext cx="2833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tization is the process of converting something of value into dollars”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inauer.com/groom/article.php?id=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&#9;apple.jpg                   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990720" y="34290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253400" y="422748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&#13;images-2.jpeg                                                  00031A5A&#9;CDPIII HD                      BBA37F10:"/>
          <p:cNvPicPr/>
          <p:nvPr/>
        </p:nvPicPr>
        <p:blipFill>
          <a:blip r:embed="rId3"/>
          <a:stretch/>
        </p:blipFill>
        <p:spPr>
          <a:xfrm>
            <a:off x="5486400" y="3657600"/>
            <a:ext cx="1936800" cy="2089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5320" y="632304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Westg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Mone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make a decision, we must put a dollar value on the positive and negative consequences of that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we have a basis for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_x000c_sandlot1.jpg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181480" y="1219320"/>
            <a:ext cx="2590920" cy="1941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24852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_x0014_Community_garden.jpg        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5410080" y="5105520"/>
            <a:ext cx="223380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&#9;otc-1.jpg                                                      00031A5A&#9;CDPIII HD                      BBA37F10:"/>
          <p:cNvPicPr/>
          <p:nvPr/>
        </p:nvPicPr>
        <p:blipFill>
          <a:blip r:embed="rId3"/>
          <a:stretch/>
        </p:blipFill>
        <p:spPr>
          <a:xfrm>
            <a:off x="5410080" y="3505320"/>
            <a:ext cx="2217960" cy="1065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6249960" y="4495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45320" y="632304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Westg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suing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A compares different courses of action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ption should always be the status q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&#10;Bolts2.JPG  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380880" y="4267080"/>
            <a:ext cx="1722600" cy="177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_x000c_nasBolts.jpg                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2971800" y="4267080"/>
            <a:ext cx="2428920" cy="176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_x000b_images.jpeg                                                    00031A5A&#9;CDPIII HD                      BBA37F10:"/>
          <p:cNvPicPr/>
          <p:nvPr/>
        </p:nvPicPr>
        <p:blipFill>
          <a:blip r:embed="rId3"/>
          <a:stretch/>
        </p:blipFill>
        <p:spPr>
          <a:xfrm>
            <a:off x="6629400" y="4267080"/>
            <a:ext cx="1981080" cy="1687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86000" y="48769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791320" y="48769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97960" y="632304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es Pre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wbacks to each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asured in doll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consider both upfront costs and negative impacts down the r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_x001d_Dollar-sign-cropped-(web).jpg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105520" y="2057400"/>
            <a:ext cx="3657600" cy="3227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7086600" y="6400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given up to pursue an option? (opportunity cost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sts in the distant future are not as bad as costs incurred tod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sts suffered by anyone are counted in a public CB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_x000e_polar_bear.jpg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6324480" y="0"/>
            <a:ext cx="230040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315200" y="6553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Cos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ment/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care for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mi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_x001e_boreal_clearcut-copyright1.jpg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638680" y="228600"/>
            <a:ext cx="3159360" cy="215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&#13;images-1.jpeg               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685800" y="152280"/>
            <a:ext cx="2819520" cy="2237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24280" y="38095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uries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greenhouse g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7315200" y="6553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316640" y="6556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2:13:44Z</dcterms:created>
  <dc:creator>Trial User</dc:creator>
  <dc:description/>
  <dc:language>en-US</dc:language>
  <cp:lastModifiedBy>profile</cp:lastModifiedBy>
  <dcterms:modified xsi:type="dcterms:W3CDTF">2010-08-17T20:17:19Z</dcterms:modified>
  <cp:revision>9</cp:revision>
  <dc:subject/>
  <dc:title>Cost Benefit Analysis</dc:title>
</cp:coreProperties>
</file>